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4893-71FE-4F87-A171-BD3C7DD7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19AE-11D2-4AA7-B0F6-B8DD2250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1FD2-A68F-4374-9A0E-502F040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C3FF-AB87-440B-9155-D6D6F591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C1B8-95C1-4F83-B4EB-F1B0F861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4FA8-74D4-407E-8F93-FCE9B5E6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FA1D-F340-41AD-87D2-A85A0929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DEB-E919-421A-AA59-C5918C56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0D0A-FF11-44B5-B0C9-36335847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C527-F913-4A40-8A84-815FAC09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E2D3-71AB-42EF-8E04-0F75289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8DFB-A8CB-4A37-B58A-2D7EC20C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4BEB-5948-4C50-8BBE-498870C3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BB3F-D2BA-49DA-BFFF-401C83B1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58B7-0F6B-4B4E-8546-9B3D4CA6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1EF7-4726-43B9-8F09-CC953A62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872-0537-4D86-B117-6FE19E2C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C797-E946-4990-8702-F252BA6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4E4F-70FA-4E9F-A351-8A05EEB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B742-0CEC-4D76-A1EB-F852AE81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A19B-9B91-4CCA-813D-8075015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0A92-245E-4A6E-8D2F-C1DA2A8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A330-FA01-473B-9E4B-733A5127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F426-B6B5-4C17-A580-376B072E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9A2C-F300-417A-A973-BDE10029F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D724-07F9-4423-91A1-AC964B684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LAN 9 e INFERN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an Carlos Gutiérrez 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dad Tecnológica de Pereira, abril 27 d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Infern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ferno  es un sistema operativo compacto diseñado para la construcción de sistemas distribuidos y en red en una amplia variedad de dispositivos y plataf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a basado en Plan 9, por lo que tiene los mismos principios de dise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cursos como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pacio de nombres ( namasp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rotocolo de comunicación Estándar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ST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abilidad: Sistema oper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ferno  puede ser ejecutado como una aplicación sobre un sistema operativo existente, o como sistema operativo “stand al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stemas operativos que pueden actuar como anfitr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Windows NT/2000/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Mac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lan 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abilidad: Arquit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ferno  soporta las siguientes arquitec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x86 (386 y super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X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owe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 StrongARM (ARM y Thu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SP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rtabilidad: Plug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ferno  funciona, adicionando un plug-in para intenet explorer 4 o sup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o permite, tener un aspecto homogeneo para el programador, sin que deba preocuparse por el sistema operativo o la arquit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abilidad: 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Las aplicaciones en Inferno, están escritas en LIMBO, un lenguaje de programación concurrente, modular, moderno y seguro, con una sintaxis similar a C y considerablemente mas fácil de entender y depurar que c++ o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código en LIMBO es compilado en un código independiente de la arquitectura, por “Dis virtual maxhin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Las especificaciones para Dis virtual machine se encuetr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http://www.vitanuova.com:8090/inferno/papers/di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s de dato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Unsigned, 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igned,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signed, 6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IEEE long float, 6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aciones y control de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)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) stat else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expr)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expr; expr; expr)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tat while (expr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expr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724280" y="198108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ibrerías: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ys: funciones del sistema como print, open,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raw: line , r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k: Mostrar gráficos, manejo mouse y 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Bufio: Entrad y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Regex: Para expresiones re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ath: 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720" y="1523880"/>
            <a:ext cx="8710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s un lenguaje de programación utilizado en el sistema operativo distribuido Inf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Ejemplo “Hola mundo”: En el editor de texto</a:t>
            </a:r>
            <a:r>
              <a:rPr b="0" lang="es-CO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Opciones</a:t>
            </a:r>
            <a:r>
              <a:rPr b="0" lang="es-CO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LIM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mplement Ho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nclude "sys.m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sys: Sy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nclude "draw.m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Hola: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nit:   fn(ctxt: ref Draw-&gt;Context, args: list of str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nit(ctxt: ref Draw-&gt;Context, args: list of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sys = load Sys Sys-&gt;PA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sys-&gt;print(“Hola mundo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bo: Compilador desde cons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mu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; limbo –g eje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;ejem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Hola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bo: Ejecutar desde w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mu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wm/w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brir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% ejem3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lan 9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4320" y="3900600"/>
            <a:ext cx="73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es.wikipedia.org/wiki/Lenguaje_de_programaci%C3%B3n_Li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8920" y="267192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lan9.bell-labs.com/plan9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60" y="328608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vitanuova.co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4960" y="2057400"/>
            <a:ext cx="70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ttp://juancarunbasic.wikispaces.com/Plan9_Sistema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lan 9 de Bell Labs es un sistema de investigación desarrollado en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Bell Labs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a partir de finales del decenio de 1980. Sus diseñadores originales y autores de Ken Thompson, Rob Pike, Dave Presotto, y Phil Winterbottom. Fueron acompañados por muchos otros continuado el desarrollo en el decenio de 1990 hasta el pres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 un sistema operativo para sistemas distribuido donde una colección de computadores separados físicamente están conectados entre sí por una red de comunicaciones. Cada máquina posee sus componentes de hardware y software que el usuario percibe como un solo sistema (no necesita saber qué cosas están en qué máquinas). El usuario accede a los recursos remotos (RPC) de la misma manera en que accede a recursos loc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diseño en Pla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Recursos como archivos: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todos los recursos del sistema se representan como archivos en el sistema de archivos jerárqu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Espacios de nombres (namespaces: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conjunto de nombres en el cual todos los nombres son únicos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la vista de la red por parte de la aplicación es un espacio de nombres simple y coherente que aparece como un sistema de archivos jerárquico pero que puede representar recursos físicamente separados (locales o remo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Protocolo de comunicaciones estándar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: se usa un protocolo estándar, llamado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9P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, para acceder a todos los recursos, ya sean locales o remo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400" y="5791320"/>
            <a:ext cx="776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j. Namespace: Juan es el ID 123 en la UTP, Maria es ID 123 en la Catól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TP y La Católica son namespaces diferentes que permiten que Juan y Ma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 identifiquen con el ID 12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l mismo identificador puede independientemente ser definido en múltiples name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a de archivo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om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lan 9 extendió el sistema de archivos a nombres, esto es,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una ruta única a un objeto ya sea un archivo, pantalla, usuario ó computadora.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Todos se manejaron utilizando los estándares UNIX existentes, pero extendidos de forma que cualquier objeto pudiera ser nombrado y accedido, un concepto similar al más conocido sistema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utilizado en la World Wide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En UNIX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, dispositivos como impresoras habían sido representados por nombres utilizando "conversores software" en el directorio /dev, pero éstos solamente manejaban dispositivos del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hardware loc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y no dispositivos remo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Bajo Plan 9 las impresoras fueron virtualizadas como archivos, que podían ser accedidos a través de la red desde cualquier estación de trabajo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0" y="5975280"/>
            <a:ext cx="910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URI es una cadena corta de caracteres que identifica inequívocamente un recurso (servicio, página, documento, dirección de correo electrónico, enciclopedia, etc.). Normalmente estos recursos son accesibles en una red o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mbres diferentes al mismo objeto r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Otra innovación de Plan 9 fue la habilidad de que los usuarios tuvieran nombres diferentes para los mismos objetos reales. Cada usuario podía crear un entorno personalizado colectando objetos varios en su espacio de nomb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IX tiene un concepto similar en el que los usuarios ganan "privilegios" siendo copiados desde otro usuario, pero Plan 9 extiende esto a todos los objetos. Los usuarios pueden fácilmente crear copias de sí mismos, modificarlas y después eliminarlas sin afectar los recursos de los que fueron cre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orios Un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lan 9 también introdujo el concepto de los directorios unión,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directorios que combinan y agrupan recursos a través de distintos medios y redes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or ejemplo, el directorio /bin (programas) de otro computador puede ser vinculado al del propio computador, y entonces este directorio contendrá las aplicaciones locales y las aplicaciones remotas (del otro computador), a las que el usuario puede acceder de forma transpar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o interesante es que los usuarios pueden utilizar el sistema de directorios unión para anexar aplicaciones remotas en su espacio de nombres, interactuando con ellas como si fueran locales, y haciendo el procesamiento a través de una red algo muy senc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para Pla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ython 2.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Graphv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erl 5.8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The PQ databas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X and LaT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CIÓN PLA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http://plan9.bell-labs.com/plan9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09-04-29T17:48:1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